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09F6-E3E4-47CA-876D-BC23598E1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4187-9231-4195-A357-47CA87AD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A586-D0A6-47B1-A526-15B54B070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A784-F5E8-49BF-BE75-BDB51A219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A46C-0FA4-42C9-95B5-B9FA104C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AC62-38E0-4E06-A93B-505F0067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07C3-E898-4578-BCEF-5126BA62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0E6B-7889-4B74-9C56-7C1C2722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19BE-C826-44BB-A125-7B6B5470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8C85-72AE-491B-97BC-1BBD4A62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2643-7CEC-4772-80D8-812FC6FB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A156-A8F3-474F-B5F7-9D523093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ngsana New"/>
                <a:ea typeface="Angsana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gsana New"/>
                <a:ea typeface="Angsana New"/>
              </a:rPr>
              <a:t>&lt;date/time&gt;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gsana New"/>
              </a:rPr>
              <a:t>&lt;footer&gt;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89D2-AF2E-4F78-BCBF-A8CDAB2BB9B3}" type="slidenum">
              <a:rPr b="0" lang="en-US" sz="26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9680" y="2368440"/>
            <a:ext cx="345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" name=""/>
          <p:cNvSpPr/>
          <p:nvPr/>
        </p:nvSpPr>
        <p:spPr>
          <a:xfrm>
            <a:off x="2251080" y="260280"/>
            <a:ext cx="58532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000000"/>
                </a:solidFill>
                <a:latin typeface="Angsana New"/>
              </a:rPr>
              <a:t>แผนภูมิการแบ่งส่วนราชการของสำนักการแพทย์</a:t>
            </a:r>
            <a:endParaRPr b="0" lang="en-US" sz="3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" name=""/>
          <p:cNvSpPr/>
          <p:nvPr/>
        </p:nvSpPr>
        <p:spPr>
          <a:xfrm>
            <a:off x="1827360" y="1951200"/>
            <a:ext cx="1834920" cy="82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สำนักงานเลขานุการ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" name=""/>
          <p:cNvSpPr/>
          <p:nvPr/>
        </p:nvSpPr>
        <p:spPr>
          <a:xfrm>
            <a:off x="6627960" y="1960560"/>
            <a:ext cx="1834920" cy="82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องวิชาการ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3063960"/>
            <a:ext cx="1835280" cy="82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700" spc="-1" strike="noStrike">
                <a:solidFill>
                  <a:srgbClr val="000000"/>
                </a:solidFill>
                <a:latin typeface="Angsana New"/>
              </a:rPr>
              <a:t>วิทยาลัยแพทยศาสตร์กรุงเทพมหานคร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700" spc="-1" strike="noStrike">
                <a:solidFill>
                  <a:srgbClr val="000000"/>
                </a:solidFill>
                <a:latin typeface="Angsana New"/>
              </a:rPr>
              <a:t>และวชิรพยาบาล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" name=""/>
          <p:cNvSpPr/>
          <p:nvPr/>
        </p:nvSpPr>
        <p:spPr>
          <a:xfrm>
            <a:off x="2886120" y="3063960"/>
            <a:ext cx="1835280" cy="82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โรงพยาบาล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ลาง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" name=""/>
          <p:cNvSpPr/>
          <p:nvPr/>
        </p:nvSpPr>
        <p:spPr>
          <a:xfrm>
            <a:off x="5497560" y="3063960"/>
            <a:ext cx="1835280" cy="82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โรงพยาบาล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ตากสิน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8" name=""/>
          <p:cNvSpPr/>
          <p:nvPr/>
        </p:nvSpPr>
        <p:spPr>
          <a:xfrm>
            <a:off x="7616880" y="3063960"/>
            <a:ext cx="1834920" cy="82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โรงพยาบาล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เจริญกรุงประชารักษ์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" name=""/>
          <p:cNvSpPr/>
          <p:nvPr/>
        </p:nvSpPr>
        <p:spPr>
          <a:xfrm>
            <a:off x="1827360" y="4037040"/>
            <a:ext cx="1834920" cy="82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โรงพยาบาล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สิรินธร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" name=""/>
          <p:cNvSpPr/>
          <p:nvPr/>
        </p:nvSpPr>
        <p:spPr>
          <a:xfrm>
            <a:off x="6627960" y="4037040"/>
            <a:ext cx="1834920" cy="82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วิทยาลัยพยาบาล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เกื้อการุณย์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5148360"/>
            <a:ext cx="1835280" cy="82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โรงพยาบาล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หลวงพ่อทวีศักดิ์ฯ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2" name=""/>
          <p:cNvSpPr/>
          <p:nvPr/>
        </p:nvSpPr>
        <p:spPr>
          <a:xfrm>
            <a:off x="2886120" y="5148360"/>
            <a:ext cx="1835280" cy="82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โรงพยาบาล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หนองจอก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3" name=""/>
          <p:cNvSpPr/>
          <p:nvPr/>
        </p:nvSpPr>
        <p:spPr>
          <a:xfrm>
            <a:off x="5497560" y="5148360"/>
            <a:ext cx="1835280" cy="82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โรงพยาบาลลาดกระบัง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รุงเทพมหานคร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" name=""/>
          <p:cNvSpPr/>
          <p:nvPr/>
        </p:nvSpPr>
        <p:spPr>
          <a:xfrm>
            <a:off x="7616880" y="5148360"/>
            <a:ext cx="1834920" cy="82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โรงพยาบาลราชพิพัฒน์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" name=""/>
          <p:cNvSpPr/>
          <p:nvPr/>
        </p:nvSpPr>
        <p:spPr>
          <a:xfrm>
            <a:off x="1685880" y="5008680"/>
            <a:ext cx="691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6" name=""/>
          <p:cNvSpPr/>
          <p:nvPr/>
        </p:nvSpPr>
        <p:spPr>
          <a:xfrm>
            <a:off x="1685880" y="500868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" name=""/>
          <p:cNvSpPr/>
          <p:nvPr/>
        </p:nvSpPr>
        <p:spPr>
          <a:xfrm>
            <a:off x="3803760" y="500868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" name=""/>
          <p:cNvSpPr/>
          <p:nvPr/>
        </p:nvSpPr>
        <p:spPr>
          <a:xfrm>
            <a:off x="8604360" y="500868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" name=""/>
          <p:cNvSpPr/>
          <p:nvPr/>
        </p:nvSpPr>
        <p:spPr>
          <a:xfrm>
            <a:off x="6416640" y="500868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" name=""/>
          <p:cNvSpPr/>
          <p:nvPr/>
        </p:nvSpPr>
        <p:spPr>
          <a:xfrm>
            <a:off x="5145120" y="1743120"/>
            <a:ext cx="0" cy="326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" name=""/>
          <p:cNvSpPr/>
          <p:nvPr/>
        </p:nvSpPr>
        <p:spPr>
          <a:xfrm>
            <a:off x="1614600" y="2924280"/>
            <a:ext cx="698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" name=""/>
          <p:cNvSpPr/>
          <p:nvPr/>
        </p:nvSpPr>
        <p:spPr>
          <a:xfrm>
            <a:off x="3873600" y="292428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" name=""/>
          <p:cNvSpPr/>
          <p:nvPr/>
        </p:nvSpPr>
        <p:spPr>
          <a:xfrm>
            <a:off x="1614600" y="292428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" name=""/>
          <p:cNvSpPr/>
          <p:nvPr/>
        </p:nvSpPr>
        <p:spPr>
          <a:xfrm>
            <a:off x="8604360" y="292428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5" name=""/>
          <p:cNvSpPr/>
          <p:nvPr/>
        </p:nvSpPr>
        <p:spPr>
          <a:xfrm>
            <a:off x="6416640" y="292428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6" name=""/>
          <p:cNvSpPr/>
          <p:nvPr/>
        </p:nvSpPr>
        <p:spPr>
          <a:xfrm>
            <a:off x="5145120" y="4383000"/>
            <a:ext cx="148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7" name=""/>
          <p:cNvSpPr/>
          <p:nvPr/>
        </p:nvSpPr>
        <p:spPr>
          <a:xfrm>
            <a:off x="4227480" y="1128600"/>
            <a:ext cx="1835280" cy="8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สำนักการแพทย์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8" name=""/>
          <p:cNvSpPr/>
          <p:nvPr/>
        </p:nvSpPr>
        <p:spPr>
          <a:xfrm>
            <a:off x="3665520" y="4384800"/>
            <a:ext cx="148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7240" y="2913120"/>
            <a:ext cx="275760" cy="3828600"/>
            <a:chOff x="57240" y="2913120"/>
            <a:chExt cx="275760" cy="3828600"/>
          </a:xfrm>
        </p:grpSpPr>
        <p:sp>
          <p:nvSpPr>
            <p:cNvPr id="70" name=""/>
            <p:cNvSpPr/>
            <p:nvPr/>
          </p:nvSpPr>
          <p:spPr>
            <a:xfrm rot="5400000">
              <a:off x="-1496880" y="4467240"/>
              <a:ext cx="3382920" cy="2743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รายงานประจำปีงบประมาณ </a:t>
              </a:r>
              <a:r>
                <a:rPr b="0" lang="en-US" sz="1200" spc="-1" strike="noStrike">
                  <a:solidFill>
                    <a:srgbClr val="000000"/>
                  </a:solidFill>
                  <a:latin typeface="Cordia New"/>
                  <a:ea typeface="Cordia New"/>
                </a:rPr>
                <a:t>2546      </a:t>
              </a:r>
              <a:r>
                <a:rPr b="0" lang="hi-IN" sz="12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สำนักการแพทย์ กรุงเทพมหานคร</a:t>
              </a:r>
              <a:endParaRPr b="0" lang="en-US" sz="1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1" name=""/>
            <p:cNvSpPr/>
            <p:nvPr/>
          </p:nvSpPr>
          <p:spPr>
            <a:xfrm rot="5400000">
              <a:off x="11520" y="6420600"/>
              <a:ext cx="367920" cy="2743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rdia New"/>
                  <a:ea typeface="Cordia New"/>
                </a:rPr>
                <a:t>19</a:t>
              </a:r>
              <a:endParaRPr b="0" lang="en-US" sz="1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2971800" y="4038480"/>
            <a:ext cx="228600" cy="761760"/>
            <a:chOff x="2971800" y="4038480"/>
            <a:chExt cx="228600" cy="761760"/>
          </a:xfrm>
        </p:grpSpPr>
        <p:sp>
          <p:nvSpPr>
            <p:cNvPr id="73" name=""/>
            <p:cNvSpPr/>
            <p:nvPr/>
          </p:nvSpPr>
          <p:spPr>
            <a:xfrm>
              <a:off x="2971800" y="4419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971800" y="48002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2971800" y="40384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200160" y="189000"/>
            <a:ext cx="275760" cy="3828600"/>
            <a:chOff x="200160" y="189000"/>
            <a:chExt cx="275760" cy="3828600"/>
          </a:xfrm>
        </p:grpSpPr>
        <p:sp>
          <p:nvSpPr>
            <p:cNvPr id="77" name=""/>
            <p:cNvSpPr/>
            <p:nvPr/>
          </p:nvSpPr>
          <p:spPr>
            <a:xfrm rot="5400000">
              <a:off x="-1353960" y="1743120"/>
              <a:ext cx="3382920" cy="2743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รายงานประจำปีงบประมาณ </a:t>
              </a:r>
              <a:r>
                <a:rPr b="0" lang="en-US" sz="1200" spc="-1" strike="noStrike">
                  <a:solidFill>
                    <a:srgbClr val="000000"/>
                  </a:solidFill>
                  <a:latin typeface="Cordia New"/>
                  <a:ea typeface="Cordia New"/>
                </a:rPr>
                <a:t>2546      </a:t>
              </a:r>
              <a:r>
                <a:rPr b="0" lang="hi-IN" sz="12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สำนักการแพทย์ กรุงเทพมหานคร</a:t>
              </a:r>
              <a:endParaRPr b="0" lang="en-US" sz="1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8" name=""/>
            <p:cNvSpPr/>
            <p:nvPr/>
          </p:nvSpPr>
          <p:spPr>
            <a:xfrm rot="5400000">
              <a:off x="154440" y="3696480"/>
              <a:ext cx="367920" cy="2743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rdia New"/>
                  <a:ea typeface="Cordia New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3124080" y="4191120"/>
            <a:ext cx="228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งานทะเบียนประวัติและวินัย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4587840"/>
            <a:ext cx="228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งานอัตรากำลังและบรรจุแต่งตั้ง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3259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362320" y="198108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971800" y="5334120"/>
            <a:ext cx="228600" cy="761760"/>
            <a:chOff x="2971800" y="5334120"/>
            <a:chExt cx="228600" cy="761760"/>
          </a:xfrm>
        </p:grpSpPr>
        <p:sp>
          <p:nvSpPr>
            <p:cNvPr id="84" name=""/>
            <p:cNvSpPr/>
            <p:nvPr/>
          </p:nvSpPr>
          <p:spPr>
            <a:xfrm>
              <a:off x="2971800" y="5715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71800" y="6095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2971800" y="53341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124080" y="5486400"/>
            <a:ext cx="228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งานตรวจสอบ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5883120"/>
            <a:ext cx="228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งานงบประมาณและพัสดุ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9" name=""/>
          <p:cNvSpPr/>
          <p:nvPr/>
        </p:nvSpPr>
        <p:spPr>
          <a:xfrm>
            <a:off x="2362320" y="2590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0" name=""/>
          <p:cNvSpPr/>
          <p:nvPr/>
        </p:nvSpPr>
        <p:spPr>
          <a:xfrm>
            <a:off x="2362320" y="3886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5257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1447920"/>
            <a:ext cx="1984320" cy="7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สำนักงานเลขานุการ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2362320"/>
            <a:ext cx="138096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งานธุรการ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4" name=""/>
          <p:cNvSpPr/>
          <p:nvPr/>
        </p:nvSpPr>
        <p:spPr>
          <a:xfrm>
            <a:off x="2600280" y="3032280"/>
            <a:ext cx="1381320" cy="44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นิติการ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5" name=""/>
          <p:cNvSpPr/>
          <p:nvPr/>
        </p:nvSpPr>
        <p:spPr>
          <a:xfrm>
            <a:off x="2600280" y="3657600"/>
            <a:ext cx="138132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การเจ้าหน้าที่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6" name=""/>
          <p:cNvSpPr/>
          <p:nvPr/>
        </p:nvSpPr>
        <p:spPr>
          <a:xfrm>
            <a:off x="2600280" y="5045040"/>
            <a:ext cx="138132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การคลัง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7" name=""/>
          <p:cNvSpPr/>
          <p:nvPr/>
        </p:nvSpPr>
        <p:spPr>
          <a:xfrm>
            <a:off x="7143840" y="3259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143840" y="19810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9" name=""/>
          <p:cNvSpPr/>
          <p:nvPr/>
        </p:nvSpPr>
        <p:spPr>
          <a:xfrm>
            <a:off x="7143840" y="2590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0" name=""/>
          <p:cNvSpPr/>
          <p:nvPr/>
        </p:nvSpPr>
        <p:spPr>
          <a:xfrm>
            <a:off x="7143840" y="3886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1" name=""/>
          <p:cNvSpPr/>
          <p:nvPr/>
        </p:nvSpPr>
        <p:spPr>
          <a:xfrm>
            <a:off x="7372440" y="2362320"/>
            <a:ext cx="138096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งานธุรการ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2" name=""/>
          <p:cNvSpPr/>
          <p:nvPr/>
        </p:nvSpPr>
        <p:spPr>
          <a:xfrm>
            <a:off x="7381800" y="3032280"/>
            <a:ext cx="1381320" cy="44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แผนงาน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3" name=""/>
          <p:cNvSpPr/>
          <p:nvPr/>
        </p:nvSpPr>
        <p:spPr>
          <a:xfrm>
            <a:off x="7381800" y="3657600"/>
            <a:ext cx="138132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พัฒนาบุคคล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4" name=""/>
          <p:cNvSpPr/>
          <p:nvPr/>
        </p:nvSpPr>
        <p:spPr>
          <a:xfrm>
            <a:off x="6477120" y="1457280"/>
            <a:ext cx="1984320" cy="75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กองวิชาการ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03360" y="1182600"/>
            <a:ext cx="122544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บริหารงานทั่วไป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6" name=""/>
          <p:cNvSpPr/>
          <p:nvPr/>
        </p:nvSpPr>
        <p:spPr>
          <a:xfrm>
            <a:off x="4519440" y="6094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10429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104292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39760"/>
            <a:ext cx="5181480" cy="59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วิทยาลัยแพทยศาสตร์กรุงเทพมหานครและวชิรพยาบาล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1177920"/>
            <a:ext cx="130176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งบประมาณ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ารเงินและบัญชี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1177920"/>
            <a:ext cx="68580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พัสดุ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1195560"/>
            <a:ext cx="1225440" cy="60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ซ่อมบำรุง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และกำจัดของเสีย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1197000"/>
            <a:ext cx="76176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วิชาการ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4" name=""/>
          <p:cNvSpPr/>
          <p:nvPr/>
        </p:nvSpPr>
        <p:spPr>
          <a:xfrm>
            <a:off x="7238880" y="1195560"/>
            <a:ext cx="1219320" cy="60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ารพยาบาล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5" name=""/>
          <p:cNvSpPr/>
          <p:nvPr/>
        </p:nvSpPr>
        <p:spPr>
          <a:xfrm>
            <a:off x="8686800" y="1195560"/>
            <a:ext cx="914400" cy="60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โภชนาการ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104292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7" name=""/>
          <p:cNvSpPr/>
          <p:nvPr/>
        </p:nvSpPr>
        <p:spPr>
          <a:xfrm>
            <a:off x="5410080" y="104292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8" name=""/>
          <p:cNvSpPr/>
          <p:nvPr/>
        </p:nvSpPr>
        <p:spPr>
          <a:xfrm>
            <a:off x="6629400" y="104292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104292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0" y="104292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1" name=""/>
          <p:cNvSpPr/>
          <p:nvPr/>
        </p:nvSpPr>
        <p:spPr>
          <a:xfrm>
            <a:off x="2057400" y="2211480"/>
            <a:ext cx="130176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ลุ่มบริการ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ทางการแพทย์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2209680"/>
            <a:ext cx="1828800" cy="6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แพทยศาสตร์ศึกษา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และกิจกรรมนักศึกษา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3" name=""/>
          <p:cNvSpPr/>
          <p:nvPr/>
        </p:nvSpPr>
        <p:spPr>
          <a:xfrm>
            <a:off x="5632560" y="2209680"/>
            <a:ext cx="1301760" cy="6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ภาควิชา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20574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104292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207000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207000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281952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ลุ่มงานผู้ป่วยนอก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303696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ลุ่มงานเวชกรรมฟื้นฟู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327672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ลุ่มงานทันตกรรม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350532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ลุ่มงานธนาคารเลือด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373392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ลุ่มงานชันสูตรโรคกลาง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396252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ลุ่มงานเภสัชกรรม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4" name=""/>
          <p:cNvSpPr/>
          <p:nvPr/>
        </p:nvSpPr>
        <p:spPr>
          <a:xfrm>
            <a:off x="6095880" y="282096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ุมารเวชศาสตร์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303840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จักษุวิทยา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6" name=""/>
          <p:cNvSpPr/>
          <p:nvPr/>
        </p:nvSpPr>
        <p:spPr>
          <a:xfrm>
            <a:off x="6095880" y="327816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จิตเวชศาสตร์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3506760"/>
            <a:ext cx="2362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เวชศาสตร์ฉุกเฉินและนิติเวชศาสตร์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8" name=""/>
          <p:cNvSpPr/>
          <p:nvPr/>
        </p:nvSpPr>
        <p:spPr>
          <a:xfrm>
            <a:off x="6095880" y="373536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พยาธิวิทยา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9" name=""/>
          <p:cNvSpPr/>
          <p:nvPr/>
        </p:nvSpPr>
        <p:spPr>
          <a:xfrm>
            <a:off x="6095880" y="396396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รังสีวิทยา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417996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วิสัญญีวิทยา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1" name=""/>
          <p:cNvSpPr/>
          <p:nvPr/>
        </p:nvSpPr>
        <p:spPr>
          <a:xfrm>
            <a:off x="6095880" y="439740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เวชศาสตร์ป้องกันและสังคม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2" name=""/>
          <p:cNvSpPr/>
          <p:nvPr/>
        </p:nvSpPr>
        <p:spPr>
          <a:xfrm>
            <a:off x="6095880" y="463716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ศัลยศาสตร์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3" name=""/>
          <p:cNvSpPr/>
          <p:nvPr/>
        </p:nvSpPr>
        <p:spPr>
          <a:xfrm>
            <a:off x="6095880" y="4865760"/>
            <a:ext cx="2362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700" spc="-1" strike="noStrike">
                <a:solidFill>
                  <a:srgbClr val="000000"/>
                </a:solidFill>
                <a:latin typeface="Angsana New"/>
              </a:rPr>
              <a:t>ศัลยศาสตร์ออร์โธปิดิกส์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4" name=""/>
          <p:cNvSpPr/>
          <p:nvPr/>
        </p:nvSpPr>
        <p:spPr>
          <a:xfrm>
            <a:off x="6095880" y="509436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700" spc="-1" strike="noStrike">
                <a:solidFill>
                  <a:srgbClr val="000000"/>
                </a:solidFill>
                <a:latin typeface="Angsana New"/>
              </a:rPr>
              <a:t>โสต นาสิก ลาริงซ์วิทยา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5" name=""/>
          <p:cNvSpPr/>
          <p:nvPr/>
        </p:nvSpPr>
        <p:spPr>
          <a:xfrm>
            <a:off x="6095880" y="532296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สูติศาสตร์ </a:t>
            </a:r>
            <a:r>
              <a:rPr b="1" lang="en-US" sz="1700" spc="-1" strike="noStrike">
                <a:solidFill>
                  <a:srgbClr val="000000"/>
                </a:solidFill>
                <a:latin typeface="Angsana New"/>
              </a:rPr>
              <a:t>- </a:t>
            </a: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นรีเวชวิทยา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5546880"/>
            <a:ext cx="18288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700" spc="-1" strike="noStrike">
                <a:solidFill>
                  <a:srgbClr val="000000"/>
                </a:solidFill>
                <a:latin typeface="Angsana New"/>
              </a:rPr>
              <a:t>อายุรศาสตร์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28195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370240" y="411480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362320" y="388620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362320" y="365760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362320" y="342900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362320" y="320040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362320" y="297180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28195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951520" y="411480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943600" y="388620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943600" y="365760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943600" y="342900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943600" y="320040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943600" y="297180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956200" y="54849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948280" y="52563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948280" y="50277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948280" y="47991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948280" y="45705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948280" y="43419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943600" y="57135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00160" y="2913120"/>
            <a:ext cx="275760" cy="3828600"/>
            <a:chOff x="200160" y="2913120"/>
            <a:chExt cx="275760" cy="3828600"/>
          </a:xfrm>
        </p:grpSpPr>
        <p:sp>
          <p:nvSpPr>
            <p:cNvPr id="169" name=""/>
            <p:cNvSpPr/>
            <p:nvPr/>
          </p:nvSpPr>
          <p:spPr>
            <a:xfrm rot="5400000">
              <a:off x="-1353960" y="4467240"/>
              <a:ext cx="3382920" cy="2743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รายงานประจำปีงบประมาณ </a:t>
              </a:r>
              <a:r>
                <a:rPr b="0" lang="en-US" sz="1200" spc="-1" strike="noStrike">
                  <a:solidFill>
                    <a:srgbClr val="000000"/>
                  </a:solidFill>
                  <a:latin typeface="Cordia New"/>
                  <a:ea typeface="Cordia New"/>
                </a:rPr>
                <a:t>2546      </a:t>
              </a:r>
              <a:r>
                <a:rPr b="0" lang="hi-IN" sz="12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สำนักการแพทย์ กรุงเทพมหานคร</a:t>
              </a:r>
              <a:endParaRPr b="0" lang="en-US" sz="1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5400000">
              <a:off x="154440" y="6420600"/>
              <a:ext cx="367920" cy="2743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rdia New"/>
                  <a:ea typeface="Cordia New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74160" y="104760"/>
            <a:ext cx="276480" cy="3828600"/>
            <a:chOff x="74160" y="104760"/>
            <a:chExt cx="276480" cy="3828600"/>
          </a:xfrm>
        </p:grpSpPr>
        <p:sp>
          <p:nvSpPr>
            <p:cNvPr id="172" name=""/>
            <p:cNvSpPr/>
            <p:nvPr/>
          </p:nvSpPr>
          <p:spPr>
            <a:xfrm rot="5400000">
              <a:off x="-1479960" y="1658880"/>
              <a:ext cx="3382920" cy="2746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รายงานประจำปีงบประมาณ </a:t>
              </a:r>
              <a:r>
                <a:rPr b="0" lang="en-US" sz="1200" spc="-1" strike="noStrike">
                  <a:solidFill>
                    <a:srgbClr val="000000"/>
                  </a:solidFill>
                  <a:latin typeface="Cordia New"/>
                  <a:ea typeface="Cordia New"/>
                </a:rPr>
                <a:t>2546      </a:t>
              </a:r>
              <a:r>
                <a:rPr b="0" lang="hi-IN" sz="12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สำนักการแพทย์ กรุงเทพมหานคร</a:t>
              </a:r>
              <a:endParaRPr b="0" lang="en-US" sz="1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00000">
              <a:off x="29160" y="3611880"/>
              <a:ext cx="367920" cy="2746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rdia New"/>
                  <a:ea typeface="Cordia New"/>
                </a:rPr>
                <a:t>22</a:t>
              </a:r>
              <a:endParaRPr b="0" lang="en-US" sz="1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85800" y="3049560"/>
            <a:ext cx="3124080" cy="1369800"/>
            <a:chOff x="685800" y="3049560"/>
            <a:chExt cx="3124080" cy="1369800"/>
          </a:xfrm>
        </p:grpSpPr>
        <p:sp>
          <p:nvSpPr>
            <p:cNvPr id="175" name=""/>
            <p:cNvSpPr/>
            <p:nvPr/>
          </p:nvSpPr>
          <p:spPr>
            <a:xfrm>
              <a:off x="838080" y="3125520"/>
              <a:ext cx="1828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ngsana New"/>
                </a:rPr>
                <a:t>กลุ่มงานผู้ป่วยนอก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38080" y="3342960"/>
              <a:ext cx="2971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ngsana New"/>
                </a:rPr>
                <a:t>กลุ่มงานเวชศาสตร์ฉุกเฉินและนิติเวชวิทยา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38080" y="3582720"/>
              <a:ext cx="1828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ngsana New"/>
                </a:rPr>
                <a:t>กลุ่มงานอายุรกรรม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8080" y="3811320"/>
              <a:ext cx="1828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ngsana New"/>
                </a:rPr>
                <a:t>กลุ่มงานกุมารเวชกรรม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8080" y="4039920"/>
              <a:ext cx="1828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ngsana New"/>
                </a:rPr>
                <a:t>กลุ่มงานศัลยกรรม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5800" y="30495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685800" y="4192560"/>
              <a:ext cx="13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685800" y="3963960"/>
              <a:ext cx="13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685800" y="3735360"/>
              <a:ext cx="13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685800" y="3506760"/>
              <a:ext cx="13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685800" y="3278160"/>
              <a:ext cx="13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603360" y="2095560"/>
            <a:ext cx="122544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บริหารงานทั่วไป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19573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195732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9" name=""/>
          <p:cNvSpPr/>
          <p:nvPr/>
        </p:nvSpPr>
        <p:spPr>
          <a:xfrm>
            <a:off x="1981080" y="2095560"/>
            <a:ext cx="121932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งบประมาณ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ารเงินและบัญชี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0" name=""/>
          <p:cNvSpPr/>
          <p:nvPr/>
        </p:nvSpPr>
        <p:spPr>
          <a:xfrm>
            <a:off x="3352680" y="2095560"/>
            <a:ext cx="68580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พัสดุ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1" name=""/>
          <p:cNvSpPr/>
          <p:nvPr/>
        </p:nvSpPr>
        <p:spPr>
          <a:xfrm>
            <a:off x="4191120" y="2095560"/>
            <a:ext cx="122544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ซ่อมบำรุง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และกำจัดของเสีย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2" name=""/>
          <p:cNvSpPr/>
          <p:nvPr/>
        </p:nvSpPr>
        <p:spPr>
          <a:xfrm>
            <a:off x="5562720" y="2095560"/>
            <a:ext cx="68580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วิชาการ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3" name=""/>
          <p:cNvSpPr/>
          <p:nvPr/>
        </p:nvSpPr>
        <p:spPr>
          <a:xfrm>
            <a:off x="6400800" y="2095560"/>
            <a:ext cx="99072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ารพยาบาล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4" name=""/>
          <p:cNvSpPr/>
          <p:nvPr/>
        </p:nvSpPr>
        <p:spPr>
          <a:xfrm>
            <a:off x="7543800" y="2095560"/>
            <a:ext cx="83808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โภชนาการ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195732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6" name=""/>
          <p:cNvSpPr/>
          <p:nvPr/>
        </p:nvSpPr>
        <p:spPr>
          <a:xfrm>
            <a:off x="4789440" y="1676520"/>
            <a:ext cx="0" cy="42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7" name=""/>
          <p:cNvSpPr/>
          <p:nvPr/>
        </p:nvSpPr>
        <p:spPr>
          <a:xfrm>
            <a:off x="5867280" y="195732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0" y="195732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0" y="195732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0" name=""/>
          <p:cNvSpPr/>
          <p:nvPr/>
        </p:nvSpPr>
        <p:spPr>
          <a:xfrm>
            <a:off x="2590920" y="195732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1" name=""/>
          <p:cNvSpPr/>
          <p:nvPr/>
        </p:nvSpPr>
        <p:spPr>
          <a:xfrm>
            <a:off x="7924680" y="196056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733920" y="3049560"/>
            <a:ext cx="3124080" cy="1369800"/>
            <a:chOff x="3733920" y="3049560"/>
            <a:chExt cx="3124080" cy="1369800"/>
          </a:xfrm>
        </p:grpSpPr>
        <p:sp>
          <p:nvSpPr>
            <p:cNvPr id="203" name=""/>
            <p:cNvSpPr/>
            <p:nvPr/>
          </p:nvSpPr>
          <p:spPr>
            <a:xfrm>
              <a:off x="3886200" y="3125520"/>
              <a:ext cx="1828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ngsana New"/>
                </a:rPr>
                <a:t>กลุ่มงานศัลยกรรมกระดูก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86200" y="3342960"/>
              <a:ext cx="2971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ngsana New"/>
                </a:rPr>
                <a:t>กลุ่มงานสูตินรีเวชกรรม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86200" y="3582720"/>
              <a:ext cx="1828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ngsana New"/>
                </a:rPr>
                <a:t>กลุ่มงานจักษุวิทยา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86200" y="3811320"/>
              <a:ext cx="1828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ngsana New"/>
                </a:rPr>
                <a:t>กลุ่มงานโสต ศอ นาสิก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86200" y="4039920"/>
              <a:ext cx="1828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ngsana New"/>
                </a:rPr>
                <a:t>กลุ่มงานวิสัญญีวิทยา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30495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3733920" y="4192560"/>
              <a:ext cx="13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3733920" y="3963960"/>
              <a:ext cx="13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3733920" y="3735360"/>
              <a:ext cx="13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733920" y="3506760"/>
              <a:ext cx="13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3733920" y="3278160"/>
              <a:ext cx="13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685800" y="5945040"/>
            <a:ext cx="121932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บริหารงานทั่วไป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5" name=""/>
          <p:cNvSpPr/>
          <p:nvPr/>
        </p:nvSpPr>
        <p:spPr>
          <a:xfrm>
            <a:off x="1295280" y="580716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580716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7" name=""/>
          <p:cNvSpPr/>
          <p:nvPr/>
        </p:nvSpPr>
        <p:spPr>
          <a:xfrm>
            <a:off x="2063880" y="5945040"/>
            <a:ext cx="113652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ลุ่มงาน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เวชปฏิบัติทั่วไป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8" name=""/>
          <p:cNvSpPr/>
          <p:nvPr/>
        </p:nvSpPr>
        <p:spPr>
          <a:xfrm>
            <a:off x="3352680" y="5945040"/>
            <a:ext cx="129564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ลุ่มงาน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ชันสูตรโรคกลาง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9" name=""/>
          <p:cNvSpPr/>
          <p:nvPr/>
        </p:nvSpPr>
        <p:spPr>
          <a:xfrm>
            <a:off x="4794120" y="5945040"/>
            <a:ext cx="122580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ลุ่มงาน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ทันตกรรม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0" name=""/>
          <p:cNvSpPr/>
          <p:nvPr/>
        </p:nvSpPr>
        <p:spPr>
          <a:xfrm>
            <a:off x="6172200" y="5945040"/>
            <a:ext cx="106668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ลุ่มงาน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อนามัยชุมชน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1" name=""/>
          <p:cNvSpPr/>
          <p:nvPr/>
        </p:nvSpPr>
        <p:spPr>
          <a:xfrm>
            <a:off x="7391520" y="5945040"/>
            <a:ext cx="99036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ลุ่มงาน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เภสัชกรรม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2" name=""/>
          <p:cNvSpPr/>
          <p:nvPr/>
        </p:nvSpPr>
        <p:spPr>
          <a:xfrm>
            <a:off x="8610480" y="5945040"/>
            <a:ext cx="91440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ารพยาบาล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3" name=""/>
          <p:cNvSpPr/>
          <p:nvPr/>
        </p:nvSpPr>
        <p:spPr>
          <a:xfrm>
            <a:off x="4038480" y="580716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4" name=""/>
          <p:cNvSpPr/>
          <p:nvPr/>
        </p:nvSpPr>
        <p:spPr>
          <a:xfrm>
            <a:off x="4724280" y="5334120"/>
            <a:ext cx="0" cy="47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5" name=""/>
          <p:cNvSpPr/>
          <p:nvPr/>
        </p:nvSpPr>
        <p:spPr>
          <a:xfrm>
            <a:off x="5410080" y="580716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6" name=""/>
          <p:cNvSpPr/>
          <p:nvPr/>
        </p:nvSpPr>
        <p:spPr>
          <a:xfrm>
            <a:off x="6705720" y="580716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7" name=""/>
          <p:cNvSpPr/>
          <p:nvPr/>
        </p:nvSpPr>
        <p:spPr>
          <a:xfrm>
            <a:off x="2597040" y="580716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8" name=""/>
          <p:cNvSpPr/>
          <p:nvPr/>
        </p:nvSpPr>
        <p:spPr>
          <a:xfrm>
            <a:off x="7848720" y="581040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9" name=""/>
          <p:cNvSpPr/>
          <p:nvPr/>
        </p:nvSpPr>
        <p:spPr>
          <a:xfrm>
            <a:off x="1752480" y="1155600"/>
            <a:ext cx="6096240" cy="59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โรงพยาบาลกลาง  โรงพยาบาลตากสิน  โรงพยาบาลเจริญกรุงประชารักษ์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791320" y="3048120"/>
            <a:ext cx="3124080" cy="1369800"/>
            <a:chOff x="5791320" y="3048120"/>
            <a:chExt cx="3124080" cy="1369800"/>
          </a:xfrm>
        </p:grpSpPr>
        <p:sp>
          <p:nvSpPr>
            <p:cNvPr id="231" name=""/>
            <p:cNvSpPr/>
            <p:nvPr/>
          </p:nvSpPr>
          <p:spPr>
            <a:xfrm>
              <a:off x="5943600" y="3124080"/>
              <a:ext cx="1828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ngsana New"/>
                </a:rPr>
                <a:t>กลุ่มงานจิตเวช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43600" y="3341520"/>
              <a:ext cx="2971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ngsana New"/>
                </a:rPr>
                <a:t>กลุ่มงานเวชกรรมฟื้นฟู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43600" y="3581280"/>
              <a:ext cx="1828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ngsana New"/>
                </a:rPr>
                <a:t>กลุ่มงานรังสีวิทยา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3600" y="3809880"/>
              <a:ext cx="1828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ngsana New"/>
                </a:rPr>
                <a:t>กลุ่มงานทันตกรรม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43600" y="4038480"/>
              <a:ext cx="1828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ngsana New"/>
                </a:rPr>
                <a:t>กลุ่มงานพยาธิวิทยา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91320" y="30481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5791320" y="4191120"/>
              <a:ext cx="13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5791320" y="3962520"/>
              <a:ext cx="13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5791320" y="3733920"/>
              <a:ext cx="13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791320" y="3505320"/>
              <a:ext cx="13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791320" y="3276720"/>
              <a:ext cx="13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7772400" y="3049560"/>
            <a:ext cx="3124080" cy="1141560"/>
            <a:chOff x="7772400" y="3049560"/>
            <a:chExt cx="3124080" cy="1141560"/>
          </a:xfrm>
        </p:grpSpPr>
        <p:sp>
          <p:nvSpPr>
            <p:cNvPr id="243" name=""/>
            <p:cNvSpPr/>
            <p:nvPr/>
          </p:nvSpPr>
          <p:spPr>
            <a:xfrm>
              <a:off x="7924680" y="3343320"/>
              <a:ext cx="29718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700" spc="-1" strike="noStrike">
                  <a:solidFill>
                    <a:srgbClr val="000000"/>
                  </a:solidFill>
                  <a:latin typeface="Angsana New"/>
                </a:rPr>
                <a:t>กลุ่มงานชันสูตรโรคกลาง</a:t>
              </a: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7772400" y="3049560"/>
              <a:ext cx="1981080" cy="1141560"/>
              <a:chOff x="7772400" y="3049560"/>
              <a:chExt cx="1981080" cy="1141560"/>
            </a:xfrm>
          </p:grpSpPr>
          <p:sp>
            <p:nvSpPr>
              <p:cNvPr id="245" name=""/>
              <p:cNvSpPr/>
              <p:nvPr/>
            </p:nvSpPr>
            <p:spPr>
              <a:xfrm>
                <a:off x="7924680" y="3125880"/>
                <a:ext cx="1828800" cy="37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700" spc="-1" strike="noStrike">
                    <a:solidFill>
                      <a:srgbClr val="000000"/>
                    </a:solidFill>
                    <a:latin typeface="Angsana New"/>
                  </a:rPr>
                  <a:t>กลุ่มงานธนาคารเลือด</a:t>
                </a:r>
                <a:endParaRPr b="0" lang="en-US" sz="1700" spc="-1" strike="noStrike">
                  <a:solidFill>
                    <a:srgbClr val="000000"/>
                  </a:solidFill>
                  <a:latin typeface="Angsana New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924680" y="3583080"/>
                <a:ext cx="1828800" cy="37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700" spc="-1" strike="noStrike">
                    <a:solidFill>
                      <a:srgbClr val="000000"/>
                    </a:solidFill>
                    <a:latin typeface="Angsana New"/>
                  </a:rPr>
                  <a:t>กลุ่มงานทันตกรรม</a:t>
                </a:r>
                <a:endParaRPr b="0" lang="en-US" sz="1700" spc="-1" strike="noStrike">
                  <a:solidFill>
                    <a:srgbClr val="000000"/>
                  </a:solidFill>
                  <a:latin typeface="Angsana New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924680" y="3811680"/>
                <a:ext cx="1828800" cy="37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700" spc="-1" strike="noStrike">
                    <a:solidFill>
                      <a:srgbClr val="000000"/>
                    </a:solidFill>
                    <a:latin typeface="Angsana New"/>
                  </a:rPr>
                  <a:t>กลุ่มงานอนามัยชุมชน</a:t>
                </a:r>
                <a:endParaRPr b="0" lang="en-US" sz="1700" spc="-1" strike="noStrike">
                  <a:solidFill>
                    <a:srgbClr val="000000"/>
                  </a:solidFill>
                  <a:latin typeface="Angsana New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772400" y="3049560"/>
                <a:ext cx="0" cy="9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7772400" y="3963960"/>
                <a:ext cx="139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7772400" y="3735360"/>
                <a:ext cx="139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7772400" y="3506760"/>
                <a:ext cx="139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7772400" y="3278160"/>
                <a:ext cx="139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685800" y="304812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288936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5" name=""/>
          <p:cNvSpPr/>
          <p:nvPr/>
        </p:nvSpPr>
        <p:spPr>
          <a:xfrm>
            <a:off x="9144000" y="2660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6" name=""/>
          <p:cNvSpPr/>
          <p:nvPr/>
        </p:nvSpPr>
        <p:spPr>
          <a:xfrm>
            <a:off x="8534520" y="2095560"/>
            <a:ext cx="1066680" cy="6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ลุ่มบริการ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ทางการแพทย์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4876920"/>
            <a:ext cx="822960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โรงพยาบาลหลวงพ่อฯ  โรงพยาบาลหนองจอก  โรงพยาบาลลาดกระบังฯ  โรงพยาบาลราชพิพัฒน์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8" name=""/>
          <p:cNvSpPr/>
          <p:nvPr/>
        </p:nvSpPr>
        <p:spPr>
          <a:xfrm>
            <a:off x="9067680" y="580248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8006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789440" y="8510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1" name=""/>
          <p:cNvSpPr/>
          <p:nvPr/>
        </p:nvSpPr>
        <p:spPr>
          <a:xfrm>
            <a:off x="1793880" y="130824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2" name=""/>
          <p:cNvSpPr/>
          <p:nvPr/>
        </p:nvSpPr>
        <p:spPr>
          <a:xfrm>
            <a:off x="1793880" y="130824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3" name=""/>
          <p:cNvSpPr/>
          <p:nvPr/>
        </p:nvSpPr>
        <p:spPr>
          <a:xfrm>
            <a:off x="3470400" y="504720"/>
            <a:ext cx="2743200" cy="59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วิทยาลัยพยาบาลเกื้อการุณย์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4" name=""/>
          <p:cNvSpPr/>
          <p:nvPr/>
        </p:nvSpPr>
        <p:spPr>
          <a:xfrm>
            <a:off x="8346960" y="130824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5" name=""/>
          <p:cNvSpPr/>
          <p:nvPr/>
        </p:nvSpPr>
        <p:spPr>
          <a:xfrm>
            <a:off x="7543800" y="1523880"/>
            <a:ext cx="1523880" cy="6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ปกครอง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และกิจการนักศึกษา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6" name=""/>
          <p:cNvSpPr/>
          <p:nvPr/>
        </p:nvSpPr>
        <p:spPr>
          <a:xfrm>
            <a:off x="3927600" y="1308240"/>
            <a:ext cx="0" cy="44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7" name=""/>
          <p:cNvSpPr/>
          <p:nvPr/>
        </p:nvSpPr>
        <p:spPr>
          <a:xfrm>
            <a:off x="6143760" y="1314360"/>
            <a:ext cx="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8" name=""/>
          <p:cNvSpPr/>
          <p:nvPr/>
        </p:nvSpPr>
        <p:spPr>
          <a:xfrm>
            <a:off x="1565280" y="215892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งานธุรการ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9" name=""/>
          <p:cNvSpPr/>
          <p:nvPr/>
        </p:nvSpPr>
        <p:spPr>
          <a:xfrm>
            <a:off x="1565280" y="237636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งานคลังและพัสดุ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0" name=""/>
          <p:cNvSpPr/>
          <p:nvPr/>
        </p:nvSpPr>
        <p:spPr>
          <a:xfrm>
            <a:off x="1565280" y="261612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งานสถานที่และยานพาหนะ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1" name=""/>
          <p:cNvSpPr/>
          <p:nvPr/>
        </p:nvSpPr>
        <p:spPr>
          <a:xfrm>
            <a:off x="5991120" y="215892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ารศึกษาทั่วไป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2" name=""/>
          <p:cNvSpPr/>
          <p:nvPr/>
        </p:nvSpPr>
        <p:spPr>
          <a:xfrm>
            <a:off x="5991120" y="237636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วิทยาศาสตร์พื้นฐาน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3" name=""/>
          <p:cNvSpPr/>
          <p:nvPr/>
        </p:nvSpPr>
        <p:spPr>
          <a:xfrm>
            <a:off x="5991120" y="261612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ารพยาบาลพื้นฐาน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4" name=""/>
          <p:cNvSpPr/>
          <p:nvPr/>
        </p:nvSpPr>
        <p:spPr>
          <a:xfrm>
            <a:off x="5991120" y="2844720"/>
            <a:ext cx="26607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700" spc="-1" strike="noStrike">
                <a:solidFill>
                  <a:srgbClr val="000000"/>
                </a:solidFill>
                <a:latin typeface="Angsana New"/>
              </a:rPr>
              <a:t>การพยาบาลอายุรศาสตร์ </a:t>
            </a:r>
            <a:r>
              <a:rPr b="1" lang="th-TH" sz="1700" spc="-1" strike="noStrike">
                <a:solidFill>
                  <a:srgbClr val="000000"/>
                </a:solidFill>
                <a:latin typeface="Angsana New"/>
              </a:rPr>
              <a:t>- </a:t>
            </a:r>
            <a:r>
              <a:rPr b="1" lang="th-TH" sz="1700" spc="-1" strike="noStrike">
                <a:solidFill>
                  <a:srgbClr val="000000"/>
                </a:solidFill>
                <a:latin typeface="Angsana New"/>
              </a:rPr>
              <a:t>ศัลยศาสตร์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5" name=""/>
          <p:cNvSpPr/>
          <p:nvPr/>
        </p:nvSpPr>
        <p:spPr>
          <a:xfrm>
            <a:off x="5991120" y="307332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ารพยาบาลกุมารเวชศาสตร์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6" name=""/>
          <p:cNvSpPr/>
          <p:nvPr/>
        </p:nvSpPr>
        <p:spPr>
          <a:xfrm>
            <a:off x="5991120" y="330192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ารพยาบาลจิตเวชศาสตร์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7" name=""/>
          <p:cNvSpPr/>
          <p:nvPr/>
        </p:nvSpPr>
        <p:spPr>
          <a:xfrm>
            <a:off x="5991120" y="3517920"/>
            <a:ext cx="23558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ารพยาบาลสาธารณสุขศาสตร์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8" name=""/>
          <p:cNvSpPr/>
          <p:nvPr/>
        </p:nvSpPr>
        <p:spPr>
          <a:xfrm>
            <a:off x="5991120" y="3735360"/>
            <a:ext cx="22798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การพยาบาลสูติ </a:t>
            </a:r>
            <a:r>
              <a:rPr b="1" lang="en-US" sz="1700" spc="-1" strike="noStrike">
                <a:solidFill>
                  <a:srgbClr val="000000"/>
                </a:solidFill>
                <a:latin typeface="Angsana New"/>
              </a:rPr>
              <a:t>- </a:t>
            </a: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นรีเวชศาสตร์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9" name=""/>
          <p:cNvSpPr/>
          <p:nvPr/>
        </p:nvSpPr>
        <p:spPr>
          <a:xfrm>
            <a:off x="1413000" y="18590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413000" y="27687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1413000" y="25401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1413000" y="23115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3" name=""/>
          <p:cNvSpPr/>
          <p:nvPr/>
        </p:nvSpPr>
        <p:spPr>
          <a:xfrm>
            <a:off x="5838840" y="2066760"/>
            <a:ext cx="0" cy="184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846760" y="3452400"/>
            <a:ext cx="139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838840" y="3223800"/>
            <a:ext cx="139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5838840" y="2995200"/>
            <a:ext cx="139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5838840" y="2766600"/>
            <a:ext cx="139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838840" y="2538000"/>
            <a:ext cx="139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838840" y="2309400"/>
            <a:ext cx="139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5843520" y="390852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843520" y="367992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2" name=""/>
          <p:cNvSpPr/>
          <p:nvPr/>
        </p:nvSpPr>
        <p:spPr>
          <a:xfrm>
            <a:off x="1177920" y="1523880"/>
            <a:ext cx="1225440" cy="6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บริหารงานทั่วไป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3" name=""/>
          <p:cNvSpPr/>
          <p:nvPr/>
        </p:nvSpPr>
        <p:spPr>
          <a:xfrm>
            <a:off x="3546360" y="2149560"/>
            <a:ext cx="1828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งานระเบียนและประเมินผล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4" name=""/>
          <p:cNvSpPr/>
          <p:nvPr/>
        </p:nvSpPr>
        <p:spPr>
          <a:xfrm>
            <a:off x="3546360" y="2389320"/>
            <a:ext cx="22860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งานห้องสมุดและโสตทัศนูปกรณ์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3394080" y="254160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3394080" y="231300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7" name=""/>
          <p:cNvSpPr/>
          <p:nvPr/>
        </p:nvSpPr>
        <p:spPr>
          <a:xfrm>
            <a:off x="3394080" y="16304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8" name=""/>
          <p:cNvSpPr/>
          <p:nvPr/>
        </p:nvSpPr>
        <p:spPr>
          <a:xfrm>
            <a:off x="3135240" y="1523880"/>
            <a:ext cx="1606680" cy="6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ฝ่าย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บริการทางการศึกษา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9" name=""/>
          <p:cNvSpPr/>
          <p:nvPr/>
        </p:nvSpPr>
        <p:spPr>
          <a:xfrm>
            <a:off x="5527800" y="1523880"/>
            <a:ext cx="1301760" cy="6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Angsana New"/>
              </a:rPr>
              <a:t>ภาควิชา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128520" y="2913120"/>
            <a:ext cx="275760" cy="3828600"/>
            <a:chOff x="128520" y="2913120"/>
            <a:chExt cx="275760" cy="3828600"/>
          </a:xfrm>
        </p:grpSpPr>
        <p:sp>
          <p:nvSpPr>
            <p:cNvPr id="301" name=""/>
            <p:cNvSpPr/>
            <p:nvPr/>
          </p:nvSpPr>
          <p:spPr>
            <a:xfrm rot="5400000">
              <a:off x="-1425600" y="4467240"/>
              <a:ext cx="3382920" cy="2743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รายงานประจำปีงบประมาณ </a:t>
              </a:r>
              <a:r>
                <a:rPr b="0" lang="en-US" sz="1200" spc="-1" strike="noStrike">
                  <a:solidFill>
                    <a:srgbClr val="000000"/>
                  </a:solidFill>
                  <a:latin typeface="Cordia New"/>
                  <a:ea typeface="Cordia New"/>
                </a:rPr>
                <a:t>2546      </a:t>
              </a:r>
              <a:r>
                <a:rPr b="0" lang="hi-IN" sz="12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สำนักการแพทย์ กรุงเทพมหานคร</a:t>
              </a:r>
              <a:endParaRPr b="0" lang="en-US" sz="1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5400000">
              <a:off x="82800" y="6420600"/>
              <a:ext cx="367920" cy="2743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rdia New"/>
                  <a:ea typeface="Cordia New"/>
                </a:rPr>
                <a:t>23</a:t>
              </a:r>
              <a:endParaRPr b="0" lang="en-US" sz="1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0T03:18:46Z</dcterms:created>
  <dc:creator>Master</dc:creator>
  <dc:description/>
  <dc:language>en-US</dc:language>
  <cp:lastModifiedBy>plan</cp:lastModifiedBy>
  <cp:lastPrinted>2002-10-02T07:45:15Z</cp:lastPrinted>
  <dcterms:modified xsi:type="dcterms:W3CDTF">2004-12-20T06:11:02Z</dcterms:modified>
  <cp:revision>24</cp:revision>
  <dc:subject/>
  <dc:title>ไม่มีชื่อเรื่องภาพนิ่ง</dc:title>
</cp:coreProperties>
</file>