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3E9-EAFB-436C-9B82-12A77989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111-17A0-4780-AC6C-7DB9DB45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58C-BD22-4D23-B63D-ABD1164B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1FF-4E6C-4E4A-93F2-6314B2C4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59C-B040-4D53-B41E-DF71E39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C48-641E-417A-8D71-D25473A0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639-A4CE-4492-8845-4420A855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E0A-A571-419B-A8FE-7BEA4961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8B9-9D3B-4714-B2FB-504E3688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5E0-9276-4330-B0C2-849BBD31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685-9497-4958-9DD7-BCF9A88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1C4-385C-4254-9580-FFA3071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19AE-5DC6-4389-A5CC-FB6C2AD0CC97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425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476280"/>
            <a:ext cx="62485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LilyUPC"/>
              </a:rPr>
              <a:t>แผนที่แสดงที่ตั้งสถานพยาบาลในสังกัดกรุงเทพมหานคร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LilyUPC"/>
              <a:ea typeface="LilyUPC"/>
            </a:endParaRPr>
          </a:p>
        </p:txBody>
      </p:sp>
      <p:sp>
        <p:nvSpPr>
          <p:cNvPr id="43" name=""/>
          <p:cNvSpPr/>
          <p:nvPr/>
        </p:nvSpPr>
        <p:spPr>
          <a:xfrm>
            <a:off x="2238480" y="6127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หลวงพ่อทวีศักดิ์ฯ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666880" y="4723920"/>
            <a:ext cx="0" cy="151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2438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าชพิพัฒน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2743200"/>
            <a:ext cx="0" cy="129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546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เจริญกรุงประชารักษ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038480" y="4419720"/>
            <a:ext cx="0" cy="12189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181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ตากสิ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43400" y="4190760"/>
            <a:ext cx="0" cy="1143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3068640" y="17366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3333cc"/>
                </a:solidFill>
                <a:latin typeface="Angsana New"/>
              </a:rPr>
              <a:t>วชิรพยาบาล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060640"/>
            <a:ext cx="79200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3298680" y="13032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วิทยาลัยพยาบาลเกื้อการุณ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52520" y="1600200"/>
            <a:ext cx="34920" cy="2133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495288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กล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962520"/>
            <a:ext cx="614160" cy="10666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895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สำนักการแพทย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7242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สิรินธร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532560" y="4114440"/>
            <a:ext cx="163440" cy="6094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52578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ลาดกระบังกรุงเทพมหานคร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รพ</a:t>
            </a:r>
            <a:r>
              <a:rPr b="1" lang="en-US" sz="2000" spc="-1" strike="noStrike">
                <a:solidFill>
                  <a:srgbClr val="3333cc"/>
                </a:solidFill>
                <a:latin typeface="Angsana New"/>
              </a:rPr>
              <a:t>.</a:t>
            </a:r>
            <a:r>
              <a:rPr b="1" lang="hi-IN" sz="2000" spc="-1" strike="noStrike">
                <a:solidFill>
                  <a:srgbClr val="3333cc"/>
                </a:solidFill>
                <a:latin typeface="Angsana New"/>
              </a:rPr>
              <a:t>หนองจอก 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153280" y="2895480"/>
            <a:ext cx="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238880" y="4190760"/>
            <a:ext cx="0" cy="1066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4920" y="2924280"/>
            <a:ext cx="395280" cy="3849480"/>
            <a:chOff x="34920" y="2924280"/>
            <a:chExt cx="395280" cy="3849480"/>
          </a:xfrm>
        </p:grpSpPr>
        <p:sp>
          <p:nvSpPr>
            <p:cNvPr id="65" name=""/>
            <p:cNvSpPr/>
            <p:nvPr/>
          </p:nvSpPr>
          <p:spPr>
            <a:xfrm rot="5400000">
              <a:off x="-1459080" y="4418280"/>
              <a:ext cx="3383280" cy="395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808080"/>
                  </a:solidFill>
                  <a:latin typeface="Angsan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808080"/>
                  </a:solidFill>
                  <a:latin typeface="Angsana New"/>
                </a:rPr>
                <a:t>2546     </a:t>
              </a:r>
              <a:r>
                <a:rPr b="0" lang="th-TH" sz="1200" spc="-1" strike="noStrike">
                  <a:solidFill>
                    <a:srgbClr val="808080"/>
                  </a:solidFill>
                  <a:latin typeface="Angsana New"/>
                </a:rPr>
                <a:t>สำนักการแพทย์ กรุงเทพมหานคร</a:t>
              </a:r>
              <a:r>
                <a:rPr b="0" lang="en-US" sz="1200" spc="-1" strike="noStrike">
                  <a:solidFill>
                    <a:srgbClr val="808080"/>
                  </a:solidFill>
                  <a:latin typeface="Angsana New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48600" y="6392160"/>
              <a:ext cx="367560" cy="395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ngsana New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962520" y="3200400"/>
            <a:ext cx="304560" cy="5335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06:10:39Z</dcterms:created>
  <dc:creator>Plan_3</dc:creator>
  <dc:description/>
  <dc:language>en-US</dc:language>
  <cp:lastModifiedBy>plan</cp:lastModifiedBy>
  <dcterms:modified xsi:type="dcterms:W3CDTF">2004-12-23T07:08:21Z</dcterms:modified>
  <cp:revision>4</cp:revision>
  <dc:subject/>
  <dc:title>ไม่มีชื่อเรื่องภาพนิ่ง</dc:title>
</cp:coreProperties>
</file>