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417-AD20-4A00-A71C-B92A9326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62E-5A9A-44CB-A543-B5A0564F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9F5-BC33-4C99-B8B6-329FD01D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4FF-69A3-4D12-B1EB-2A5DC14A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1C0-CA41-4402-A743-FB90FC7A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6DB-6C2C-4116-8328-3FBF1B1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3D1-30C0-42AB-9600-EAFE0E3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F34-0A45-4033-B5EA-9E00072B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3B2-2302-4676-80E7-846C9AA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72E-8719-4722-A05B-356211D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7B2-94E8-43FA-9DFE-2E40BB3D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AAB-236F-4D5E-95BF-C247470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5E8-B6A6-4F82-8B15-E6AD941DA5E9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425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476280"/>
            <a:ext cx="6248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LilyUPC"/>
              </a:rPr>
              <a:t>แผนที่แสดงที่ตั้งสถานพยาบาลในสังกัดกรุงเทพมหานคร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LilyUPC"/>
              <a:ea typeface="LilyUPC"/>
            </a:endParaRPr>
          </a:p>
        </p:txBody>
      </p:sp>
      <p:sp>
        <p:nvSpPr>
          <p:cNvPr id="43" name=""/>
          <p:cNvSpPr/>
          <p:nvPr/>
        </p:nvSpPr>
        <p:spPr>
          <a:xfrm>
            <a:off x="2238480" y="6127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ลวงพ่อทวีศักดิ์ฯ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666880" y="4723920"/>
            <a:ext cx="0" cy="151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438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าชพิพัฒ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743200"/>
            <a:ext cx="0" cy="129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546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เจริญกรุงประชารักษ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38480" y="4419720"/>
            <a:ext cx="0" cy="1218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181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ตากสิ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43400" y="4190760"/>
            <a:ext cx="0" cy="1143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3068640" y="17366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Angsana New"/>
              </a:rPr>
              <a:t>วชิรพยาบาล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060640"/>
            <a:ext cx="79200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3298680" y="13032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52520" y="1600200"/>
            <a:ext cx="34920" cy="2133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95288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กล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962520"/>
            <a:ext cx="614160" cy="1066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895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ำนักการแพท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7242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ิรินธ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532560" y="4114440"/>
            <a:ext cx="16344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52578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ลาดกระบังกรุงเทพมหานค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นองจอก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53280" y="28954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238880" y="4190760"/>
            <a:ext cx="0" cy="1066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920" y="2924280"/>
            <a:ext cx="395280" cy="3849480"/>
            <a:chOff x="34920" y="2924280"/>
            <a:chExt cx="395280" cy="3849480"/>
          </a:xfrm>
        </p:grpSpPr>
        <p:sp>
          <p:nvSpPr>
            <p:cNvPr id="65" name=""/>
            <p:cNvSpPr/>
            <p:nvPr/>
          </p:nvSpPr>
          <p:spPr>
            <a:xfrm rot="5400000">
              <a:off x="-1459080" y="4418280"/>
              <a:ext cx="338328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2546     </a:t>
              </a: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สำนักการแพทย์ กรุงเทพมหานคร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8600" y="6392160"/>
              <a:ext cx="36756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ngsana New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62520" y="3200400"/>
            <a:ext cx="304560" cy="533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06:10:39Z</dcterms:created>
  <dc:creator>Plan_3</dc:creator>
  <dc:description/>
  <dc:language>en-US</dc:language>
  <cp:lastModifiedBy>plan</cp:lastModifiedBy>
  <dcterms:modified xsi:type="dcterms:W3CDTF">2004-12-23T07:08:21Z</dcterms:modified>
  <cp:revision>4</cp:revision>
  <dc:subject/>
  <dc:title>ไม่มีชื่อเรื่องภาพนิ่ง</dc:title>
</cp:coreProperties>
</file>